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9B7B-F4CD-4667-BAD5-EDFE2CBAD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E10D-34B6-48FD-8D63-ABE75BCA6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0C75-B7B2-4C3B-864B-29F215712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4A30-6938-48DA-953E-18BF5F838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5B35-4AE0-474F-94C2-6AFD45993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0061-F1D8-466C-A427-597DFEA3D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2D57-1115-4117-869B-163F2CD96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EE80-69C9-44E9-8E14-A8DA26759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3511-983E-49C1-B26B-F928A6F55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6249-16F3-41DB-B1F6-75164B6A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8642-837C-4C87-9CB9-6F15783C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10FE-D9EC-4D23-94CD-987AA490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4D636-DB34-4E8D-B276-2472A959F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Where to from her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we have learnt so fa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21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isting WCPFC measures (CMM 2006-01 &amp; 2005-01) established effort caps – but insufficient to address overfis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 management measures are being implemented by PNA members within EEZ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tch re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month FAD 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% observer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reement that require ‘complimentary’ measures in the high seas (achieve equivalent effect but not necessarily the s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ncip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s should be established across PS and LL to be effective &amp; not pose disproportional burden on fish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m to minimise impacts on skipjack and albacore ca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to act at the next meeting ……no compromise on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ggested PS measur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n high seas between 2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N and 1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 and compatible with EEZ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otal effort limit (vesse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otal effort limit (days) monitored through VMS (similar to V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otal catch limit (responsive to population size chan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On all PS effort or FAD/log se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Catch re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3 month FAD 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100% Observer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Staged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ggested PS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ure of high se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ure of high seas po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S discussion on co-operative management and decision 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ll closure say 3 mon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ggested PS measur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ternative metho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 depth restri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rictions on time of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rictions on mesh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on phase 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tential LL measur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In high seas between 2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N and 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 and compatible with EEZ meas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otal effort limit (vessel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otal effort limit (days) monitored through VMS (similar to VDS-like sche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otal catch lim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25% reduction  in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losed areas/seasons (in addition to above measur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Observer require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osure of high seas pocke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osures of high seas until measures develop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to address vulnerability in Eastern sect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tional effort from non-me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UU effo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et Pressure/ Certific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ture certification pressures/require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CS arran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neral additional issu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us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us of th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g-eye and yellowfin measure which include compatible measure  eg VDS on High s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pirational r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Ent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2:15:46Z</dcterms:created>
  <dc:creator>Higgins Amy</dc:creator>
  <dc:description/>
  <dc:language>en-US</dc:language>
  <cp:lastModifiedBy>SANTANA LARA</cp:lastModifiedBy>
  <dcterms:modified xsi:type="dcterms:W3CDTF">2008-04-14T06:35:43Z</dcterms:modified>
  <cp:revision>19</cp:revision>
  <dc:subject/>
  <dc:title>Where to from here?</dc:title>
</cp:coreProperties>
</file>